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854-1495-4F44-B187-588AAA31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E5F-3241-4D90-967D-83A1AB64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FBE-A70A-4136-A6E6-36039982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5C1-BE2C-4A10-8117-3D89DD04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670E6-D240-45ED-A96D-0AD33D0F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B798F-B0BF-432C-AFFA-4164155F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76E8D-1ECB-4309-9B7E-828C5FB3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3153A-D571-4C93-BD24-44F8D2C2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70436-0035-4FAC-AD67-018FEDF6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A6458-B90F-4CCE-BCD1-C71C7411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68B85-27BC-4D48-935F-78C6E76A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B15A-D0C3-484C-815E-FC912878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C60C7-DD47-4F43-9E27-E019664C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49DC8-F5F3-40D4-A115-4E76BE03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F9D54-E104-4CED-A6F3-21E8EE0D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C0556-E204-484A-8842-BEB79426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F761A-CB81-4886-A075-3EC610C8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DB3-E935-4B76-B1DF-603A94A0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49B-A292-486B-8D3C-49F1A99F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05A0-B401-4AAC-A621-CF987D15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C7A-B0EF-449F-9674-7EFCE9E4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CED-5855-40DC-89BE-BCA4662D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61E6-EB17-444B-84B4-8327C5B6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465-F122-4944-8237-D2EBB2C1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2BAA-1CB9-476C-B085-EFFEB9ED3D0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F312-AED7-440C-BE6E-47A80A42ED9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1676520"/>
            <a:ext cx="81536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ravimetric analysi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vimetric analysis, by definition, includes all methods of analysis in which the final stage of the analysis involves weighing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most basic case, this could involve simply heating a sample to dryness and weighing to determine the amount of volatile component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account, however, I shall limit myself to gravimetric methods which rely on the use of precipitation rea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2480" y="304920"/>
            <a:ext cx="48769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troductio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quantitative determination of a substance by precipitation followed by isolation and weighing of the precipitate is  called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gravimetric analysis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c method of gravimetric analysis is fairly straightforwar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eighed sample is dissolved after which an excess of a precipitating agent is add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ecipitate which forms is filtered, dried or ignited and weigh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mass and known composition of the precipitate, the amount of the original ion can be determin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For successful determinations the following criteria must be met</a:t>
            </a: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sired substance must be completely precipitated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most determinations the precipitate is of such low solubility that losses from dissolution are negligibl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dditional factor is the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i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, this further reduces the solubility of the precipitat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 is precipitated out by addition of C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g+ + Cl- =&lt;-&gt; AgCl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***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(low) solubility of AgCl is reduced still further by the excess of Cl- which is added, pushing the equilibrium to the right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eighed form of the product should be of known composi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should be "pure" and easily filtered. It is usually difficult to obtain a product which is "pure", i.e. one which is free from impurities but careful precipitation and sufficient washing helps reduce the level of impur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914400"/>
            <a:ext cx="8201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 my best wishes to succeed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57400" y="3166920"/>
            <a:ext cx="4572000" cy="10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slam.N.S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0" y="4876920"/>
            <a:ext cx="411480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***STAR*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8-11-22T15:45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